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BA0-7819-45A5-8941-17A0E8B0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C41-B591-48A7-974D-7B655F05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FA0-2A74-4C58-82AF-F7D6E971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637-8EE4-442B-82EB-E2EE1609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3F72-7E77-435F-ADF7-F72B6720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B7D-EF81-4D43-8835-8974A8C6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3B7-F34C-4D71-830D-545F60C0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C59-EB0C-4163-9B33-62BBF8F3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F64-E128-482B-91D0-1EAD8220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BB6-B577-448A-834A-8F84F172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F7B-4057-4E3C-A3E4-DAD93520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277-CC74-4029-AA49-4BFEFE13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6F9B-7906-4A29-A3E8-C90F37298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01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98280" y="44280"/>
            <a:ext cx="9010800" cy="673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7:36:46Z</dcterms:created>
  <dc:creator>Utilisateur Windows</dc:creator>
  <dc:description/>
  <dc:language>en-US</dc:language>
  <cp:lastModifiedBy>Utilisateur Windows</cp:lastModifiedBy>
  <dcterms:modified xsi:type="dcterms:W3CDTF">2016-11-24T14:06:38Z</dcterms:modified>
  <cp:revision>3</cp:revision>
  <dc:subject/>
  <dc:title>Présentation PowerPoint</dc:title>
</cp:coreProperties>
</file>