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28C-A17B-4504-AF0C-4DF776B9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108-A08B-4E31-BC25-87D8DFF6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367-3B81-4D04-B142-6F0A1710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05-2EF9-4CB3-B390-C38869DB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DA8-FD43-45F4-9786-AA8227D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446-FC4D-4F9E-836E-9090E3A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DA4-3381-48F8-A175-239F4E7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25A-48FE-4B33-868E-4E23299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250-270D-4873-A7BE-A9EBD3F7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A02-0E86-43D3-A30B-86CA251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972-2080-486D-8A68-C14FB28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E86-14D9-484D-BB94-D0E814E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B9B-B24E-4D2E-85C0-1278F5F11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2556000" y="6356520"/>
            <a:ext cx="41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88920" y="44280"/>
            <a:ext cx="902016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34920" y="112680"/>
            <a:ext cx="9020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4920" y="55440"/>
            <a:ext cx="90392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98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39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4000" y="44280"/>
            <a:ext cx="8982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820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1"/>
          <a:stretch/>
        </p:blipFill>
        <p:spPr>
          <a:xfrm>
            <a:off x="54000" y="44280"/>
            <a:ext cx="90583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79200" y="79200"/>
            <a:ext cx="902988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88920" y="44280"/>
            <a:ext cx="90201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69840" y="127080"/>
            <a:ext cx="90392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4920" y="69840"/>
            <a:ext cx="90108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4920" y="96840"/>
            <a:ext cx="900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5:58Z</dcterms:created>
  <dc:creator>Utilisateur Windows</dc:creator>
  <dc:description/>
  <dc:language>en-US</dc:language>
  <cp:lastModifiedBy>Utilisateur Windows</cp:lastModifiedBy>
  <dcterms:modified xsi:type="dcterms:W3CDTF">2016-11-23T17:36:19Z</dcterms:modified>
  <cp:revision>1</cp:revision>
  <dc:subject/>
  <dc:title>Présentation PowerPoint</dc:title>
</cp:coreProperties>
</file>