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A93-17EA-4C5E-B4A4-ACB934AD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D49-6B91-46D1-982A-83ECD188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7E8-5F7A-4CE3-99CB-7386253E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5E6-75D0-43CB-884A-E4D56CE4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409-B836-4E59-9D37-2CFA6E2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55B-70D6-4054-9348-F811FB5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935-A474-4B33-B775-589B347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65B-3217-46E0-BD2E-B8B4246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834-C1DA-4B21-8CC7-40F46F0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DBE-5B9B-4E67-8B66-47D73E9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B03-ABC5-4C5E-A8BD-C2815BC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F52-7C34-43E4-B7B4-F67849D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D4B9-A894-4962-AC87-B8F73D49D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292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62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10800" cy="67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91720" cy="676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9200" y="44280"/>
            <a:ext cx="90298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90010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5:10Z</dcterms:created>
  <dc:creator>Utilisateur Windows</dc:creator>
  <dc:description/>
  <dc:language>en-US</dc:language>
  <cp:lastModifiedBy>Utilisateur Windows</cp:lastModifiedBy>
  <dcterms:modified xsi:type="dcterms:W3CDTF">2016-11-23T17:35:34Z</dcterms:modified>
  <cp:revision>1</cp:revision>
  <dc:subject/>
  <dc:title>Présentation PowerPoint</dc:title>
</cp:coreProperties>
</file>