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4AB-8BD6-4521-8A7A-A1112075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742-E3D5-4502-ABD6-72E0F4A0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D0C-FC18-410F-BC88-65684B1A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DBF-2A1B-4A0C-A295-11B54A84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DC5-C2A1-4301-A415-75E836F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645-2E2B-44B4-8463-BF6E538E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6AB-5192-4B5F-BA87-5D70CB25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651-297F-497E-989B-5CED846F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0CD-DA4F-419B-B290-E1C9D8AD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A45-C4FF-413C-95F2-4E57654D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94B-F9C2-4562-B434-1E72D84C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F2E-C09A-4E05-A0DD-0AF7FC0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FE50-15EC-4E45-8F55-18732148D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108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98280" y="44280"/>
            <a:ext cx="90108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34920" y="117360"/>
            <a:ext cx="9010800" cy="669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88920" y="115920"/>
            <a:ext cx="902016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69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54000" y="44280"/>
            <a:ext cx="898200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2476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7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99172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1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99172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3360" y="44280"/>
            <a:ext cx="897264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82000" cy="672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4:30Z</dcterms:created>
  <dc:creator>Utilisateur Windows</dc:creator>
  <dc:description/>
  <dc:language>en-US</dc:language>
  <cp:lastModifiedBy>Utilisateur Windows</cp:lastModifiedBy>
  <dcterms:modified xsi:type="dcterms:W3CDTF">2016-11-23T17:34:48Z</dcterms:modified>
  <cp:revision>1</cp:revision>
  <dc:subject/>
  <dc:title>Présentation PowerPoint</dc:title>
</cp:coreProperties>
</file>