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183-3EF7-4BEB-9FEE-0C996E8D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FE35-57CF-40A0-9972-266413B4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9FE-A564-48B4-BBA3-998F49D5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7FC-1BB1-430C-9282-B5D791D5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406-2E88-466A-A103-47E1731E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B3B-89BC-4915-923F-FB1C53F8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705-CC92-4A8B-AD6C-4971D3DF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DA5-4B72-4D64-A99D-7FBB0A99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1FB5-64F8-44DD-9D16-A5A558A8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6C10-2AD5-4438-AD38-C9FE50E5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D9A6-72E2-442E-AE15-48148E65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579-BD96-4F10-8AA9-52C4C972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B3BC-3ABD-4D1B-B3F3-43885B1A1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Espace réservé du pied de page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Réseau CClin/Arlin - Grephh - Quick-audit HDM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74600" y="115920"/>
            <a:ext cx="88614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8991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3" descr=""/>
          <p:cNvPicPr/>
          <p:nvPr/>
        </p:nvPicPr>
        <p:blipFill>
          <a:blip r:embed="rId1"/>
          <a:stretch/>
        </p:blipFill>
        <p:spPr>
          <a:xfrm>
            <a:off x="60480" y="88920"/>
            <a:ext cx="90486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6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"/>
          <p:cNvPicPr/>
          <p:nvPr/>
        </p:nvPicPr>
        <p:blipFill>
          <a:blip r:embed="rId1"/>
          <a:stretch/>
        </p:blipFill>
        <p:spPr>
          <a:xfrm>
            <a:off x="85680" y="44280"/>
            <a:ext cx="9023400" cy="676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2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288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47520" y="115920"/>
            <a:ext cx="9010800" cy="66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5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48600" cy="66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2" descr=""/>
          <p:cNvPicPr/>
          <p:nvPr/>
        </p:nvPicPr>
        <p:blipFill>
          <a:blip r:embed="rId1"/>
          <a:stretch/>
        </p:blipFill>
        <p:spPr>
          <a:xfrm>
            <a:off x="34920" y="88920"/>
            <a:ext cx="90298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3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91720" cy="672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7:33:18Z</dcterms:created>
  <dc:creator>Utilisateur Windows</dc:creator>
  <dc:description/>
  <dc:language>en-US</dc:language>
  <cp:lastModifiedBy>Utilisateur Windows</cp:lastModifiedBy>
  <dcterms:modified xsi:type="dcterms:W3CDTF">2016-11-23T17:33:48Z</dcterms:modified>
  <cp:revision>1</cp:revision>
  <dc:subject/>
  <dc:title>Présentation PowerPoint</dc:title>
</cp:coreProperties>
</file>