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E37B1-408D-4251-855F-0FBBAA69319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Type d’ind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« avant 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4C7E3-B8D2-4F03-817D-8843B8AF9BAA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Type d’ind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« avant 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98716-18AE-4C8C-9D2E-4C3364B18781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5FA5-7AD6-4ABE-802E-7AFE0A492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70B0-2A0C-4E8B-9ACC-446AFED42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F2DA-839B-49E7-A2F2-94ED0E878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040A-9443-4C32-AA6C-9015738F0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8FEE-9722-4947-9B7B-824395F64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60E9-E78A-4BD7-A9D5-631B132BE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5CB3-7C67-4C99-BEF1-2AB8A7353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B383-26F0-469A-B11F-38675535F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E704-09B5-4260-84FB-CE6C71A27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B9A9-7002-4D86-AD4B-763FF0C1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5443-455C-4C85-95DB-EEF8E70C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DEFD-E52C-49F0-90F3-14249102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32EE5-7628-4EA5-AD55-A678D2DAD0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108000" y="44280"/>
            <a:ext cx="8956800" cy="663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2" descr=""/>
          <p:cNvPicPr/>
          <p:nvPr/>
        </p:nvPicPr>
        <p:blipFill>
          <a:blip r:embed="rId1"/>
          <a:stretch/>
        </p:blipFill>
        <p:spPr>
          <a:xfrm>
            <a:off x="100080" y="44280"/>
            <a:ext cx="9009000" cy="66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5" descr=""/>
          <p:cNvPicPr/>
          <p:nvPr/>
        </p:nvPicPr>
        <p:blipFill>
          <a:blip r:embed="rId1"/>
          <a:stretch/>
        </p:blipFill>
        <p:spPr>
          <a:xfrm>
            <a:off x="108000" y="44280"/>
            <a:ext cx="900108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9" descr=""/>
          <p:cNvPicPr/>
          <p:nvPr/>
        </p:nvPicPr>
        <p:blipFill>
          <a:blip r:embed="rId1"/>
          <a:stretch/>
        </p:blipFill>
        <p:spPr>
          <a:xfrm>
            <a:off x="108000" y="44280"/>
            <a:ext cx="9001080" cy="67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"/>
          <p:cNvPicPr/>
          <p:nvPr/>
        </p:nvPicPr>
        <p:blipFill>
          <a:blip r:embed="rId1"/>
          <a:stretch/>
        </p:blipFill>
        <p:spPr>
          <a:xfrm>
            <a:off x="57240" y="44280"/>
            <a:ext cx="8978760" cy="66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8959680" cy="66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5" descr=""/>
          <p:cNvPicPr/>
          <p:nvPr/>
        </p:nvPicPr>
        <p:blipFill>
          <a:blip r:embed="rId1"/>
          <a:stretch/>
        </p:blipFill>
        <p:spPr>
          <a:xfrm>
            <a:off x="34920" y="90360"/>
            <a:ext cx="9001080" cy="672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9" descr=""/>
          <p:cNvPicPr/>
          <p:nvPr/>
        </p:nvPicPr>
        <p:blipFill>
          <a:blip r:embed="rId1"/>
          <a:stretch/>
        </p:blipFill>
        <p:spPr>
          <a:xfrm>
            <a:off x="33480" y="68400"/>
            <a:ext cx="9016920" cy="67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7" descr=""/>
          <p:cNvPicPr/>
          <p:nvPr/>
        </p:nvPicPr>
        <p:blipFill>
          <a:blip r:embed="rId1"/>
          <a:stretch/>
        </p:blipFill>
        <p:spPr>
          <a:xfrm>
            <a:off x="108000" y="157320"/>
            <a:ext cx="8928000" cy="66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892800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108000" y="65160"/>
            <a:ext cx="8928000" cy="66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133200" y="44280"/>
            <a:ext cx="8902800" cy="66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8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8928000" cy="66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26640" cy="66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01080" cy="677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7" descr=""/>
          <p:cNvPicPr/>
          <p:nvPr/>
        </p:nvPicPr>
        <p:blipFill>
          <a:blip r:embed="rId1"/>
          <a:stretch/>
        </p:blipFill>
        <p:spPr>
          <a:xfrm>
            <a:off x="150840" y="108000"/>
            <a:ext cx="888516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01080" cy="67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1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01080" cy="67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7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8928000" cy="66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3T17:31:20Z</dcterms:created>
  <dc:creator>Utilisateur Windows</dc:creator>
  <dc:description/>
  <dc:language>en-US</dc:language>
  <cp:lastModifiedBy>Utilisateur Windows</cp:lastModifiedBy>
  <dcterms:modified xsi:type="dcterms:W3CDTF">2016-11-23T17:31:58Z</dcterms:modified>
  <cp:revision>1</cp:revision>
  <dc:subject/>
  <dc:title>Présentation PowerPoint</dc:title>
</cp:coreProperties>
</file>