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97D-8619-48EA-AFD1-B287B178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F04-178E-44B2-A9A3-821EDE4C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5CD-A655-4BB5-9D93-38E615F9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407-B34B-4CAE-AFE8-7FD289FE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4E0-3DA6-49AE-AC2E-E109D81A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EBC-3689-4759-80AD-6FACD6A0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ADA-03AE-4EF7-9C32-999B0631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433-41FF-4D7A-9E75-FAE24DDC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8CD-66AD-44A3-AB13-E3E3ACC8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45D-66F8-4319-B012-FD5BED5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AC2-466C-44BD-82F4-DDA0726B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892-6095-419F-9FEA-82899F75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7986-875C-406E-9962-141EDCF3F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60480" y="44280"/>
            <a:ext cx="90486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8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9005760" cy="67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6156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41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5508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8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740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54000" y="115920"/>
            <a:ext cx="8982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726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8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236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596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7:38Z</dcterms:created>
  <dc:creator>Utilisateur Windows</dc:creator>
  <dc:description/>
  <dc:language>en-US</dc:language>
  <cp:lastModifiedBy>Utilisateur Windows</cp:lastModifiedBy>
  <dcterms:modified xsi:type="dcterms:W3CDTF">2016-11-23T17:38:00Z</dcterms:modified>
  <cp:revision>1</cp:revision>
  <dc:subject/>
  <dc:title>Présentation PowerPoint</dc:title>
</cp:coreProperties>
</file>