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29CC-BD50-4637-AFF2-C6737136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58B7-97D0-44A1-ADA6-33758856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A05D-F69B-447C-AF7F-E568829E0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D059-41C1-4F7B-A471-E707ECB03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5552-F16E-462C-B2B6-A4D80542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8AA3-4F82-4C0C-9C4E-41D88148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549E-8565-4C12-A4B0-36336221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A0B3-8626-43C0-9E18-8D666B4D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CB8C-45FA-403D-AB89-F83B6A1D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9CE1-FCCB-483C-9CBA-2025B7AB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1E68-1FEB-4017-97A1-8D020CC7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6E3C-BC0E-4432-8FE4-CE9E3254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466C-431C-4943-83BD-8C81C6E839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20160" cy="676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3T17:38:19Z</dcterms:created>
  <dc:creator>Utilisateur Windows</dc:creator>
  <dc:description/>
  <dc:language>en-US</dc:language>
  <cp:lastModifiedBy>Utilisateur Windows</cp:lastModifiedBy>
  <dcterms:modified xsi:type="dcterms:W3CDTF">2016-11-23T17:38:58Z</dcterms:modified>
  <cp:revision>1</cp:revision>
  <dc:subject/>
  <dc:title>Présentation PowerPoint</dc:title>
</cp:coreProperties>
</file>